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71C44-1F03-4747-B04A-EE065738B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DEC2E-9994-421F-9162-720EAD56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B143D-066D-4EB9-97A8-743C8A032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45303-992A-42CA-AFF0-0F73DF6ED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AA692-F4DB-4252-9094-3BA30BC22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87F4E-1EE3-4D51-A589-453D732C3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68F6B-037E-4E2B-A5CC-29EFB43B7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DB7A1-F1EE-427A-A857-B73B50F0C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A74F7-F95E-41FC-8664-F99A973A9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79D92-B9CC-467C-943F-80E2C9FA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9E18C-7AEB-42B8-AA6F-027F19D4F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647A-A28E-4C05-AD00-0E40C6B70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99721-3EA2-4309-895C-1CFBAF67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7EE69-3153-40DB-9A6C-E8DE3177D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50F99-7C30-4580-A550-FDD245D0B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9C295-4620-460D-8158-8488A06D8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86739-FE6E-452B-BA2B-529353B04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7B709-049A-4D65-8E70-B9D791B4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647D-9578-40B5-93B3-8BC9EDDC6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4539-6D09-46F3-AAC3-CD09E019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D4581-B1A6-4B61-A443-CA725623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8396-A92C-4D29-A4BE-6CE6FA48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A588-201D-47C1-B146-1C917CFD7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5BCA-63FA-484B-BDEE-9E16073DB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99ff"/>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61D5-FC3B-4CC7-8628-446477CC9964}"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6A95-56C6-44C4-9718-A23D4BE3F81B}"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Click to edit the outline text format</a:t>
            </a:r>
            <a:endParaRPr b="0" lang="en-US" sz="2800" spc="-1" strike="noStrike">
              <a:solidFill>
                <a:srgbClr val="ffffeb"/>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ce and Social studies ch. 15</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Intro</a:t>
            </a:r>
            <a:endParaRPr b="0" lang="en-US" sz="2000" spc="-1" strike="noStrike">
              <a:solidFill>
                <a:srgbClr val="ffffeb"/>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b"/>
                </a:solidFill>
                <a:latin typeface="Arial"/>
              </a:rPr>
              <a:t>Social studies is an academic discipline concerned with concepts and knowledge of the physical and social world around us.</a:t>
            </a:r>
            <a:endParaRPr b="0" lang="en-US" sz="2000" spc="-1" strike="noStrike">
              <a:solidFill>
                <a:srgbClr val="ffffe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Make Adaptations for Special Needs for Field Trips. </a:t>
            </a:r>
            <a:endParaRPr b="1" lang="en-US" sz="3200" spc="-1" strike="noStrike">
              <a:solidFill>
                <a:srgbClr val="ffffeb"/>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 trips can be great learning experiences but you needs to call ahead to inform the staff of any special needs the students have. Students with visual impairments may require modifications or adaptations in lighting printed materials, video presentations or seating arrangement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th hearing impairments may need special seating or aids, students with cognitive or intellectual impairments may need preparation or on site teacher support.</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th attentional disorders may need assistance focusing attention on relevant exhibits and effectively sequencing their visi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school employ a </a:t>
            </a:r>
            <a:r>
              <a:rPr b="1" lang="en-US" sz="1600" spc="-1" strike="noStrike">
                <a:solidFill>
                  <a:srgbClr val="ffffff"/>
                </a:solidFill>
                <a:latin typeface="Arial"/>
              </a:rPr>
              <a:t>textbook (or content-oriented) approach</a:t>
            </a:r>
            <a:r>
              <a:rPr b="0" lang="en-US" sz="1600" spc="-1" strike="noStrike">
                <a:solidFill>
                  <a:srgbClr val="ffffff"/>
                </a:solidFill>
                <a:latin typeface="Arial"/>
              </a:rPr>
              <a:t> in which students are taught and learn content information from a text boo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ools may also embrace a </a:t>
            </a:r>
            <a:r>
              <a:rPr b="1" lang="en-US" sz="1600" spc="-1" strike="noStrike">
                <a:solidFill>
                  <a:srgbClr val="ffffff"/>
                </a:solidFill>
                <a:latin typeface="Arial"/>
              </a:rPr>
              <a:t>activities oriented approach </a:t>
            </a:r>
            <a:r>
              <a:rPr b="0" lang="en-US" sz="1600" spc="-1" strike="noStrike">
                <a:solidFill>
                  <a:srgbClr val="ffffff"/>
                </a:solidFill>
                <a:latin typeface="Arial"/>
              </a:rPr>
              <a:t>where students undertake specific projects, experiments, or other activities to enhance their understanding of the subjec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approach may utilize an </a:t>
            </a:r>
            <a:r>
              <a:rPr b="1" lang="en-US" sz="1600" spc="-1" strike="noStrike">
                <a:solidFill>
                  <a:srgbClr val="ffffff"/>
                </a:solidFill>
                <a:latin typeface="Arial"/>
              </a:rPr>
              <a:t>inquiry-based model </a:t>
            </a:r>
            <a:r>
              <a:rPr b="0" lang="en-US" sz="1600" spc="-1" strike="noStrike">
                <a:solidFill>
                  <a:srgbClr val="ffffff"/>
                </a:solidFill>
                <a:latin typeface="Arial"/>
              </a:rPr>
              <a:t>of learning, in which students use their knowledge or experience to invent, discover, or construct new knowledg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ations for inquiry based models may focus on supports or enhancements to promote the thinking and reasoning process in students with special need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Adapting Textbook Oriented Approaches </a:t>
            </a:r>
            <a:endParaRPr b="1" lang="en-US" sz="3200" spc="-1" strike="noStrike">
              <a:solidFill>
                <a:srgbClr val="ffffeb"/>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Effective teaching strategie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using big ideas. Make sure your content is very well organized. Be enthusiastic, provide a lot of examples in a lot of different ways, use direct language, teach mnemonic devises and be sure to go over new vocabulary.</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vide Content-enhancement strategies – </a:t>
            </a:r>
            <a:r>
              <a:rPr b="0" lang="en-US" sz="1200" spc="-1" strike="noStrike">
                <a:solidFill>
                  <a:srgbClr val="ffffff"/>
                </a:solidFill>
                <a:latin typeface="Arial"/>
              </a:rPr>
              <a:t>this incorporates effective instructional design and makes use of graphic organizers, including study guides, charts, diagrams, outlines, visual-spacial displays mnemonics, and imagery to promote learning and comprehension.</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y worksheet activity </a:t>
            </a:r>
            <a:r>
              <a:rPr b="0" lang="en-US" sz="1200" spc="-1" strike="noStrike">
                <a:solidFill>
                  <a:srgbClr val="ffffff"/>
                </a:solidFill>
                <a:latin typeface="Arial"/>
              </a:rPr>
              <a:t>modifying assignments for students with special needs reduces the amount of reading and writing, but covers the same major concepts. (This is an example of differentiated instruction)</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ies for Promoting Independent Learning from Textbooks. </a:t>
            </a:r>
            <a:r>
              <a:rPr b="0" lang="en-US" sz="1200" spc="-1" strike="noStrike">
                <a:solidFill>
                  <a:srgbClr val="ffffff"/>
                </a:solidFill>
                <a:latin typeface="Arial"/>
              </a:rPr>
              <a:t>A large portion of learning that takes place in social studies come from independent studying of text book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Teach Study Skills Strategies for content-area Textbooks </a:t>
            </a:r>
            <a:endParaRPr b="1" lang="en-US" sz="3200" spc="-1" strike="noStrike">
              <a:solidFill>
                <a:srgbClr val="ffffeb"/>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th special needs may require explicit instruction in the use of successful study skills and strategies. Things like learning how to predict text structures, how to highlight or outline essential information, and how to use enhancements such as lesson organizers, graphic organizers, illustrations, charts, graphs and diagrams are strategies</a:t>
            </a:r>
            <a:endParaRPr b="0" lang="en-US" sz="2800" spc="-1" strike="noStrike">
              <a:solidFill>
                <a:srgbClr val="ffffff"/>
              </a:solidFill>
              <a:latin typeface="Arial"/>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ffectively using a text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Teach Students to Identify Text Organization </a:t>
            </a:r>
            <a:endParaRPr b="1" lang="en-US" sz="3200" spc="-1" strike="noStrike">
              <a:solidFill>
                <a:srgbClr val="ffffeb"/>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 students how to use features found in the text book. Things like overall parts of the text, organizational systems. Specific features such as objectives, outlines, boldface, vocabulary, illustrations and charts. Also features associated with supplemental materials such as work books, lab books and activity shee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Teach Students to Identify text structures </a:t>
            </a:r>
            <a:endParaRPr b="1" lang="en-US" sz="3200" spc="-1" strike="noStrike">
              <a:solidFill>
                <a:srgbClr val="ffffeb"/>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 the child to paraphrase and summar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each Learning Strategies </a:t>
            </a:r>
            <a:endParaRPr b="1" lang="en-US" sz="3600" spc="-1" strike="noStrike">
              <a:solidFill>
                <a:srgbClr val="ffffeb"/>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 Pass </a:t>
            </a:r>
            <a:r>
              <a:rPr b="0" lang="en-US" sz="2000" spc="-1" strike="noStrike">
                <a:solidFill>
                  <a:srgbClr val="ffffff"/>
                </a:solidFill>
                <a:latin typeface="Arial"/>
              </a:rPr>
              <a:t>where you teach students to survey, size up and sort out information.</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Fits </a:t>
            </a:r>
            <a:r>
              <a:rPr b="0" lang="en-US" sz="2000" spc="-1" strike="noStrike">
                <a:solidFill>
                  <a:srgbClr val="ffffff"/>
                </a:solidFill>
                <a:latin typeface="Arial"/>
              </a:rPr>
              <a:t>where students identify the term, tell the definition, find a key work, imagine the definition, think about the definition, study what they imagined until they know the definition.</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vel </a:t>
            </a:r>
            <a:r>
              <a:rPr b="0" lang="en-US" sz="2000" spc="-1" strike="noStrike">
                <a:solidFill>
                  <a:srgbClr val="ffffff"/>
                </a:solidFill>
                <a:latin typeface="Arial"/>
              </a:rPr>
              <a:t>where students write down a topic, read a paragraph, ask about the main idea and three details and write them down, verify the main idea by circling it and linking its details, examine the next paragraph and then link all the circ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Strategies for Adapting textbook materials. </a:t>
            </a:r>
            <a:endParaRPr b="1" lang="en-US" sz="3200" spc="-1" strike="noStrike">
              <a:solidFill>
                <a:srgbClr val="ffffeb"/>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mote pre-reading and post reading strategie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 READING - present difficult concepts or vocabulary words to students with disabilities in class before having them read about the information independently.</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READING use per tutoring, group discussions, debriefing and work shee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Strategies for Adapting Social Studies Activities </a:t>
            </a:r>
            <a:endParaRPr b="1" lang="en-US" sz="3200" spc="-1" strike="noStrike">
              <a:solidFill>
                <a:srgbClr val="ffffeb"/>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ement Textbook Based Instruction </a:t>
            </a:r>
            <a:r>
              <a:rPr b="0" lang="en-US" sz="2800" spc="-1" strike="noStrike">
                <a:solidFill>
                  <a:srgbClr val="ffffff"/>
                </a:solidFill>
                <a:latin typeface="Arial"/>
              </a:rPr>
              <a:t>things like videos, student projects and technological applications as much as possib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6:08:53Z</dcterms:created>
  <dc:creator>Andreww</dc:creator>
  <dc:description/>
  <dc:language>en-US</dc:language>
  <cp:lastModifiedBy>Andreww</cp:lastModifiedBy>
  <dcterms:modified xsi:type="dcterms:W3CDTF">2011-07-11T16:16:38Z</dcterms:modified>
  <cp:revision>1</cp:revision>
  <dc:subject/>
  <dc:title>Science and Social studies ch. 15 </dc:title>
</cp:coreProperties>
</file>